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11F4-5359-48C4-AECB-7863C0AA3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49D3-75FF-483F-938A-805D9CE6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E01F-2519-4267-97D7-D737F54D9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78D2-E801-4D54-9C60-C611B012D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A35B-4F99-46BE-965F-507E7031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6A44-EC31-4A1C-97C9-568AD2A5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B574-1CDD-4A45-93C7-089D75E0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3555-C33C-4BC0-BF42-E8E834F9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53CC-4CCB-4539-96F5-6202D622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FA65-8340-4148-B322-82C1B895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754B-D967-49A4-BE18-0BB2B1EE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E2D9-D920-46C0-A195-62EFCD4A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FC4E-8D27-4D17-89BE-82D8F881A28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troduction to ani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Part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Updated resources\Part 1\JPEGS\New animation part1\Page_9.jpg"/>
          <p:cNvPicPr/>
          <p:nvPr/>
        </p:nvPicPr>
        <p:blipFill>
          <a:blip r:embed="rId1"/>
          <a:stretch/>
        </p:blipFill>
        <p:spPr>
          <a:xfrm>
            <a:off x="2571840" y="0"/>
            <a:ext cx="4863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Updated resources\Part 1\JPEGS\New animation part1\Page_10.jpg"/>
          <p:cNvPicPr/>
          <p:nvPr/>
        </p:nvPicPr>
        <p:blipFill>
          <a:blip r:embed="rId1"/>
          <a:stretch/>
        </p:blipFill>
        <p:spPr>
          <a:xfrm>
            <a:off x="2500200" y="0"/>
            <a:ext cx="486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:\Updated resources\Part 1\JPEGS\New animation part1\Page_11.jpg"/>
          <p:cNvPicPr/>
          <p:nvPr/>
        </p:nvPicPr>
        <p:blipFill>
          <a:blip r:embed="rId1"/>
          <a:stretch/>
        </p:blipFill>
        <p:spPr>
          <a:xfrm>
            <a:off x="2143080" y="0"/>
            <a:ext cx="486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D:\Updated resources\Part 1\JPEGS\New animation part1\Page_1.jpg"/>
          <p:cNvPicPr/>
          <p:nvPr/>
        </p:nvPicPr>
        <p:blipFill>
          <a:blip r:embed="rId1"/>
          <a:stretch/>
        </p:blipFill>
        <p:spPr>
          <a:xfrm>
            <a:off x="2139840" y="0"/>
            <a:ext cx="486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Updated resources\Part 1\JPEGS\New animation part1\Page_2.jpg"/>
          <p:cNvPicPr/>
          <p:nvPr/>
        </p:nvPicPr>
        <p:blipFill>
          <a:blip r:embed="rId1"/>
          <a:stretch/>
        </p:blipFill>
        <p:spPr>
          <a:xfrm>
            <a:off x="2139840" y="0"/>
            <a:ext cx="486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Updated resources\Part 1\JPEGS\New animation part1\Page_3.jpg"/>
          <p:cNvPicPr/>
          <p:nvPr/>
        </p:nvPicPr>
        <p:blipFill>
          <a:blip r:embed="rId1"/>
          <a:stretch/>
        </p:blipFill>
        <p:spPr>
          <a:xfrm>
            <a:off x="2139840" y="0"/>
            <a:ext cx="486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:\Updated resources\Part 1\JPEGS\New animation part1\Page_4.jpg"/>
          <p:cNvPicPr/>
          <p:nvPr/>
        </p:nvPicPr>
        <p:blipFill>
          <a:blip r:embed="rId1"/>
          <a:stretch/>
        </p:blipFill>
        <p:spPr>
          <a:xfrm>
            <a:off x="2139840" y="0"/>
            <a:ext cx="486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:\Updated resources\Part 1\JPEGS\New animation part1\Page_5.jpg"/>
          <p:cNvPicPr/>
          <p:nvPr/>
        </p:nvPicPr>
        <p:blipFill>
          <a:blip r:embed="rId1"/>
          <a:stretch/>
        </p:blipFill>
        <p:spPr>
          <a:xfrm>
            <a:off x="2286000" y="0"/>
            <a:ext cx="4863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Updated resources\Part 1\JPEGS\New animation part1\Page_6.jpg"/>
          <p:cNvPicPr/>
          <p:nvPr/>
        </p:nvPicPr>
        <p:blipFill>
          <a:blip r:embed="rId1"/>
          <a:stretch/>
        </p:blipFill>
        <p:spPr>
          <a:xfrm>
            <a:off x="2643120" y="0"/>
            <a:ext cx="486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:\Updated resources\Part 1\JPEGS\New animation part1\Page_7.jpg"/>
          <p:cNvPicPr/>
          <p:nvPr/>
        </p:nvPicPr>
        <p:blipFill>
          <a:blip r:embed="rId1"/>
          <a:stretch/>
        </p:blipFill>
        <p:spPr>
          <a:xfrm>
            <a:off x="2571840" y="0"/>
            <a:ext cx="478620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Updated resources\Part 1\JPEGS\New animation part1\Page_8.jpg"/>
          <p:cNvPicPr/>
          <p:nvPr/>
        </p:nvPicPr>
        <p:blipFill>
          <a:blip r:embed="rId1"/>
          <a:stretch/>
        </p:blipFill>
        <p:spPr>
          <a:xfrm>
            <a:off x="2571840" y="0"/>
            <a:ext cx="4863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0:02:51Z</dcterms:created>
  <dc:creator>kforbes</dc:creator>
  <dc:description/>
  <dc:language>en-US</dc:language>
  <cp:lastModifiedBy>kforbes</cp:lastModifiedBy>
  <dcterms:modified xsi:type="dcterms:W3CDTF">2008-10-31T11:48:14Z</dcterms:modified>
  <cp:revision>14</cp:revision>
  <dc:subject/>
  <dc:title>Introduction to animation</dc:title>
</cp:coreProperties>
</file>